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461-0302-436F-985B-5BC10082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827-C7AC-48F1-8570-1930D8E2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1A5-57D4-47CA-8321-8A483987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082-2AE9-465D-A8B7-6E39F513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BBBD6-5F86-43C6-8AD2-62FE9A30F1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3B763-E5C8-4652-831A-02CD4F76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AFBB2-C7CD-4DF6-A9C0-CEB8E7F2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1D0BE-5570-4B29-9F3B-BC5929BB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178D7-8107-4B4B-91F2-BBB08CDD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CC195-66C9-4851-8824-F2144DE0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1F91E-4700-41ED-838D-89EC31E6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161-7DD8-4BC4-A5FB-D018D3D1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6AAE6-926E-49A0-8AB7-808B6A1C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BF6AE-6B2C-4B75-B4CD-FF03BC3E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F54DF-04BB-443D-ABAA-447B1B51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D55D5-4C44-4F77-87A8-6CE222B0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5B638-6639-4866-A5C4-47AC6816C9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A50-38B7-44FB-B21B-B1DEE2EF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AC6-0113-4A8A-8F4E-414855BB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C89-C184-4604-AECC-B4CB7A93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DA1-6B81-4A72-8406-955202EB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ECA-5C68-4EA1-BD7E-F4C281D4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192-EA0E-43CB-AE0C-CF699B2D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3C9-FEB3-46A6-A93A-0EA22B4B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b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333360"/>
            <a:ext cx="8353440" cy="1079640"/>
          </a:xfrm>
          <a:prstGeom prst="rect">
            <a:avLst/>
          </a:prstGeom>
          <a:solidFill>
            <a:srgbClr val="0000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400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1.09.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00000" y="6237360"/>
            <a:ext cx="48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chsen, Wellen und Zapfen                           Andrej 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88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5A58-7192-4CA6-A167-56916CA69C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b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125360"/>
            <a:ext cx="8353440" cy="1944720"/>
          </a:xfrm>
          <a:prstGeom prst="rect">
            <a:avLst/>
          </a:prstGeom>
          <a:solidFill>
            <a:srgbClr val="0000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1. September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A6A5-E00E-41AB-A820-0310AAE406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chsen, Wellen und Zap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400500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wicklung und Konstr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drej 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ap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chszapfen werden auf Biegung beanspru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lenzapfen werden auf Torsion bzw. Torsion und Biegung beanspru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zelzapfen (Spurzapfen, Kugelzapfen) werden auf Flächenpressung und zusätzlich auf Biegung beanspruch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288144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3236760" cy="144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02480" y="5372280"/>
            <a:ext cx="41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 11-17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a) Achszapfen, b), c) und d) Wellenzapf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Matek S.35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49A-245F-42FA-979E-75DCB00108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en und Entwer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ufgaben des Konstrukteurs s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leine Abmessungen anstr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uerbruchgefahr beseit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fache und kostensparende Fer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onstruktive Maßnahmen sind oft entscheidender als Verwendung von Werkstoffen höherer Festigkeit (z.B. Vermeidung von Kerbstell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96E-7104-45DF-999D-8FC690806A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Gedrängte Bauweise: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leine Rad- und Lagerabstände anstreben, um kleine Biegemomente und Durchmesser zu errei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durch können Größe, Gewicht und Kosten der Gesamtkonstruktion verringert we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i vorgegebenen Lagerabständen sowie Torsions- und Biegemomenten können Achsen/ Wellen für den Entwurf genau berechnet we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49D-C3E3-41E8-955F-E3ACC81D95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rbwirkung verm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 schärfer die Kerbform, umso größer die Spannungsspi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lenübergänge ohne Schulter festigkeitsmäßig am günstigsten, aufgeschrumpfte Naben von der Übergangsstelle etwas zurück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4508640"/>
            <a:ext cx="2303640" cy="122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7040" y="546732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4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Wellenübergang ohne Schu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9D0-E413-4A5B-873C-9F59257FED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abgesetzten Zapfen das Verhältni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D/d = 1,4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überschreiten (Schwächung der Achse/ W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ergänge gut runden mi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 = d/20….d/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od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B 11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direkt an den Wellenschultern sitzenden Wälzlagern die Rundungsradien beachte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TB 14-1/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il- und Passfedernuten bei Umlaufbiegung nicht bis an die Übergänge heranführen (erhöhte Dauerbruchgefahr durch die Kerbwirkungen aus beiden Querschnittsveränderu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4869000"/>
            <a:ext cx="2784600" cy="1373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24360" y="5445000"/>
            <a:ext cx="17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 11-3a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Zapfenüberg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Matek S.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A07-7918-48D5-BDE1-C663861A99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äder und Scheiben gegen axiales Verschieben durch Distanzscheiben oder –hülsen, Stellringe oder Wellenschultern s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cherungsringe an der Welle vermeiden, möglichst nur an den Wellenenden anord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ten kürzer als Naben ausführen, damit Distanzhülsen einwandfrei an der Nabe anlieg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4581360"/>
            <a:ext cx="3456000" cy="1386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263840" y="4869000"/>
            <a:ext cx="2751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estlegen von Rädern bz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ei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durch Distanzhüls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) durch Wellenschulte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3D4-9F05-43F0-A610-EC4082E4B5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 Möglichkeit Fertigwellen/Achsen verwenden, um die Fertigungskosten zu sp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ststehende Achsen gegenüber umlaufenden bevorzugen wegen günstiger Beanspruchungsverhält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ger dicht an Scheiben und Räder setzen, um die Durchbiegung klein zu hal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F9D-0434-4241-83CD-00BFD6C505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ie Steifigkeit der Welle/ Achse konstruktiv zu verbessern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öglichst kurze Abmaße (geringere Biegemo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nge Achsen/Wellen wenn möglich zwischenlagern (gleichmäßige Verteilung der Biegemomente auf der Welle/Ach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ohlachse/-welle bevorzugen wegen deutlich höheren Widerstandsmoments bei gleichem Querschnitt als             Vollachse/-w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Vorteil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Gewichtserspar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achteil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höhere Fertigungskost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5FD-BAFE-47DE-A447-12C27AC2BC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ale Führung der Achsen und Wellen durch Ansatzflächen der Lagerzapfen oder Stellringe sich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sreichend Spiel vorsehen, um ein Verspannen bei Wärmedehnung zu vermeiden oder Einbauungenauigkeiten auszugleic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3600360" cy="1009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3600360" cy="108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71640" y="5229360"/>
            <a:ext cx="3600360" cy="100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3280" y="5516640"/>
            <a:ext cx="332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6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Axiale Führung von Achsen und Well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durch Wellenschultern, b) durch Stellring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) bei mehrfacher Lag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B5E-0581-4948-8531-9193423AD7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s elastischen Verhal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gemein ist eine hohe kritische Drehzahl anzustreben, mindestens 10-20% über der Betriebsdreh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he kritische Drehzahl wird erreicht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 möglichst dicht an umlaufende Räder usw. setzen, um die Durchbiegung klein zu 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 langen Wellen auf Verdrehung (Torsion) a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len mit umlaufenden Teilen  bei hohen Drehzahlen sorgfältig auswuchten (hohe Fliehkräf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laufende Scheiben, Räder usw. leicht bau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kleines Massenträgheitsmoment und geringere Durchbiegung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FE0-7E9D-489E-AA23-F986111A7A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haltsverzeich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unktion und Wirk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staltungsgrundsät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ritische Drehzah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rkstoffe und Halbze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rec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0A5-2AED-4E7E-B626-58B54BE47A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s elastischen Verhal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Torsionsbeanspr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urch die Verformung in der Welle gespeicherte Formänderungsarbeit erzeugt Schwingungen bei Drehmomentenschwank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u großer Verdrehwinkel ergibt eine niedrige kritische Dreh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zul. Verdrehwinkel 0,25°- 0,5° je m Wellenlän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2158920" cy="172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404880" y="5540400"/>
            <a:ext cx="234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24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Elastische Verform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Torsionsbeanspruchu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85F-7FBC-41D1-BBC6-66F9151BFB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s elastischen Verhal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Biegebeanspr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biegung und Neigung werden bestimmt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t, Größe und Lage der hierfür maßgebende Kräf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astische Eigenschaften des Wellen- oder Achsenwerkstoff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ul. Neigung/ Durchbiegung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B 11-5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1640" y="4653000"/>
            <a:ext cx="3313080" cy="1440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340160" y="5540400"/>
            <a:ext cx="234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25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Elastische Verform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Biegebeanspru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34A-D3B4-421F-BC30-C834AB5011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ritische Drehzahl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ingungen, Resona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Körper z.B. Federstab wird durch kurzzeitig wirkende Kraft elastisch verfor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Entlastung wird der Körper durch gleichgroße Rückstellkraft in Biegeschwingungen v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Schwingungsfrequenz ist umso größer, je größer die Elastizität und je kleiner die Masse des Körpers (Eigenfrequenz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5E7-C8BF-42AC-9541-5D30C22491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ritische Drehzahl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ingungen, Resona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 Überlagerung der Erregerfrequenz mit der Eigenfrequenz (Resonanz) werden die Schwingungsausschläge nach jedem Anstoß größer, so dass u.U. ein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ruc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intreten k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Drehschwingungen kann es zu gleichen Erscheinungen 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ßnahmen: Welle und umlaufende Teile auswuchten, Steifigkeit erhöh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40C-483C-407F-A7CA-636A9DEDD8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erkstoffe und Halbze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hsen und Wellen können ohne Nacharbeit aus geraden blanken Rundstäben hergestellt werden (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B 1-6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kstoffe und Halbzeuge sollen aus wirtschaftlichen Gründen nicht hochwertiger als erforderlich gewäh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normal beanspruchte Achsen und Wellen können unlegierte Baustähle gewäh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höher beanspruchten Wellen sind Vergütungsstähle und bei Beanspruchung auf Verschleiß Einsatzstähle vorzuziehe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TB 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5AC-104D-4BB9-B1D3-84DF8174C5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rechn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überschlägig ermittelten Durchmesse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d`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ind sinnvoll auf den Entwurfsdurchmesse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zur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Abmessungen der dazugehörigen Normteile sind zu berücksich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chließende Durchführung der Sicherheitsnach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71640" y="3716280"/>
            <a:ext cx="2160360" cy="2233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016000" cy="2233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97760" y="5445000"/>
            <a:ext cx="179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22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rechnerisc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urchmes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DE6-D2F0-47E6-B810-521131E134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rechnungsform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mittlung der Achsendurchmess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1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mittlung der Wellendurchmess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5-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cherheitsnachweis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19-20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 11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Torsionsbeanspruchung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21-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Biegebeanspruchung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24-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iegekritische Drehzahl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41-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drehkritische Drehzah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(FS 11/ 44-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3F9-8C8A-42DB-9101-E2E6F1B9F4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Qu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oloff/Matek: Maschinenelemente, Lehrbuch und Tabellenbuch; Vieweg Verlag, 19. Auflage, 2009, ISBN 978-3-8348-0689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oloff/Matek: Maschinenelemente, Formelsammlung; Vieweg Verlag, 9. Auflage, 2008, ISBN 978-3-8348-0534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lfred Böge: Handbuch Maschinenbau; Vieweg Verlag, 18. Auflage, 2007, ISBN 978-3-8085-1724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bellenbuch Metall; Europa Lehrmittel Verlag, 44. Auflage, 2008, ISBN 978-3-8085-1724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chkunde Metall; Europa Lehrmittel Verlag, 53. Auflage, 1999,    ISBN 3-8085-1153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abendblatt.de/ratgeber/wissen/article947506/Die-Schwachstelle-des-IC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E53-CB41-4695-A6D2-3382903CCF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inl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chsen, Wellen und Zapfen begegnet man                häufig im Beruf und im Alltag (Autos, Fahrräder, Werkzeugmaschinen usw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s gibt unterschiedliche Bauarten und Größ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beanspruchung kann zu schwerwiegenden Folgen füh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5291280" cy="63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17C-4F7C-45CF-ADE9-9EEF4FB0BD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i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ntwurf und Gestaltung der Achsen/Wellen anhand der Grundlagenkenntn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imensionierung der Achsen/Wellen durch Berechn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icherheitsnachweis der ermittelten Dimensionier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0BF-B83D-48A2-BCBE-48C20938CD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: Ach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5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chsen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tabförmige Maschinenelemente zum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Trag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Lager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drehbaren Bauteilen (z.B. Laufräder, Seilroll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anspruchung auf Biegung durch Querkräf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6920" y="5516640"/>
            <a:ext cx="758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11-1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chse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a) feststehende Achse, b) umlaufende Achse mit Achszapfe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 Matek S.3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484-9C8A-47B3-B1C5-B5E5B3B35D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chsen: Bau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55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773360"/>
            <a:ext cx="54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eststehende Achsen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rde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ruhend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oder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hwellend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auf Biegung beansprucht, die Maschinenteile (z.B. Seilrollen, Riemenscheiben) drehen sich lose auf der Ach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orteil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öhere Tragfähigkeit als bei umlaufenden Achsen gleicher Größ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005360"/>
            <a:ext cx="532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Umlaufende Achsen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rde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chselnd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auf Biegung beansprucht, die Maschinenteile sitzen fest auf der Ach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orteil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facherer Ein- und Ausbau sowie leichtere Wartung der L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Nachteil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eringere Tragfäh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33360" cy="1973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160360" cy="18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A60-413D-4ABF-9599-9EED4A0F34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: W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ellen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tabförmige Maschinenelemente, die z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Weiterleiten von Drehbewegungen und Drehmoment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ow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Lager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rotierenden Teilen verwend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anspruchung auf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rs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zusätzlich auf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eg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3379680" cy="216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5661000"/>
            <a:ext cx="779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 11-1c: Well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mit Wellenzapfe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 Matek S.3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8B7-EAC5-464B-A1D2-ECE636A401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ellen: Bau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252960" cy="115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92720" y="3357720"/>
            <a:ext cx="3235320" cy="1126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292720" y="4797360"/>
            <a:ext cx="3236760" cy="107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1989000"/>
            <a:ext cx="504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tarre Wellen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um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Übertragen der Drehbewegungen auf die Zahnräder, Riemenscheiben, Kupplungen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lenkwellen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zum Verbinden von nicht fluchtenden, in der Lage veränderlichen Wellenteilen mit großen Abständen            (z.B. Kraftfahrzeuge, Werkzeugmasch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egsame Wellen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zum Antrieb ortsveränderlicher Maschinen mit kleiner Leistung (z.B. Handschleifmasch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BE7-3ECA-4EF4-AD5F-8E8DF3AEF1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: Zap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417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apfen: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nd die zum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Lager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meist abgesetz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chsen- und Wellenend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ch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inzelel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.B. Spurzapfen, Kurbelzapfen)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07980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24240" y="4724280"/>
            <a:ext cx="22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: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Zapfenar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U Fachkunde Metall S. 4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30E-2CE3-41D7-9433-4C2CCC2006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38:17Z</dcterms:created>
  <dc:creator>Berg</dc:creator>
  <dc:description/>
  <dc:language>en-US</dc:language>
  <cp:lastModifiedBy>siow0380</cp:lastModifiedBy>
  <dcterms:modified xsi:type="dcterms:W3CDTF">2010-09-18T14:21:40Z</dcterms:modified>
  <cp:revision>203</cp:revision>
  <dc:subject/>
  <dc:title>PowerPoint Presentation</dc:title>
</cp:coreProperties>
</file>